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A26-2ECD-44E8-8798-938CCB60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886-F8BE-413F-AAB1-8EF48A36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38B-FF15-4259-8DB5-4EEE080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08B-DC86-4422-8B69-C1F4D31C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818-2813-404D-889C-9DA27FB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0AB-610F-4301-A32C-6E01595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2F5-7342-4248-B576-13DACBA2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1B1-28DC-4EDA-B9EF-B99BB23F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C77-AADE-41D0-9BBC-013B701C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6A2-DA32-45B3-BE4C-0D0A1C61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387-D019-43E5-8350-EEE6E8FB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D19-D98E-4559-9405-1ACA02B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f4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BC8D-FD1F-438E-85A4-566E7F64C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835200" y="1298520"/>
            <a:ext cx="7248240" cy="251784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444680" y="2901960"/>
            <a:ext cx="64134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990720" y="1546200"/>
            <a:ext cx="533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gislators don’t have  time to compi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bbyists present info in an organized, persuasive, factual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ent politics – nature of issue could give advantage to suppliers of certain information but burden on suppliers of contra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5" descr=""/>
          <p:cNvPicPr/>
          <p:nvPr/>
        </p:nvPicPr>
        <p:blipFill>
          <a:blip r:embed="rId1"/>
          <a:stretch/>
        </p:blipFill>
        <p:spPr>
          <a:xfrm>
            <a:off x="2309760" y="237960"/>
            <a:ext cx="391968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93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93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9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93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762120" y="1752480"/>
            <a:ext cx="556236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tical cue: tells official what values are at stake and if issue fits into their set of political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ngs: assess a representative’s voting record on issues important to an interes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5" descr=""/>
          <p:cNvPicPr/>
          <p:nvPr/>
        </p:nvPicPr>
        <p:blipFill>
          <a:blip r:embed="rId1"/>
          <a:stretch/>
        </p:blipFill>
        <p:spPr>
          <a:xfrm>
            <a:off x="2316240" y="237960"/>
            <a:ext cx="391932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"/>
          <p:cNvPicPr/>
          <p:nvPr/>
        </p:nvPicPr>
        <p:blipFill>
          <a:blip r:embed="rId2"/>
          <a:stretch/>
        </p:blipFill>
        <p:spPr>
          <a:xfrm>
            <a:off x="5410080" y="3733920"/>
            <a:ext cx="2629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380880" y="1523880"/>
            <a:ext cx="70106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r strategy: lobbyists work closely with key members of Con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r strategy: designed to generate public pressure directly on government officials (grassroots lobby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sue public: public directly affected by governmen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bers interest groups work with legislators with whom they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few issues are so important that member of Congress would think that to ignore public opinion would mean losing 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200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92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192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192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192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457200" y="1600200"/>
            <a:ext cx="4876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bbyists try direct-mail campaigns to arouse small, passionate group to write letters/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ty Dozen” – Congressmen votes against bills to help environment; lost them their re-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rge, well-funded interest groups rarely all-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352000" cy="14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762120" y="1523880"/>
            <a:ext cx="64767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ney one of less effective ways to advance groups’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mpaign finance reform law of 1973: restricted amount any interest could give candidate; legal for corporations/labor unions to form political action committees (PACs) to mak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4, top ten PACs were labor unions, business organizations, groups representing doctors, lawyers, realtors, governmen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93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93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93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93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838080" y="182880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se of ideological PACs (+1,000: ⅓ liberal, ⅔ conserva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more money but give less since the way they raise it is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PACs spend small sums of money over many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44600" y="266760"/>
            <a:ext cx="8245440" cy="11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8576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685800" y="1600200"/>
            <a:ext cx="73915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ndreds leave government for jobs in privat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hael K. Deaver (deputy chief of staff under Reagan) used former government contacts to help clients of public relation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 other way: Ex – lawyers of Federal Trade Commission might feel will be rewarded for being especially vigorous/effective 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93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93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193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193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066680" y="1752480"/>
            <a:ext cx="5562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th ends of political spectrum used disru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minists, antislavery, blacks: sit-ins to bomb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u Klux Klan: terror, intimidation, mu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Char char="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icials find selves in no-win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93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193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193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193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2:21Z</dcterms:created>
  <dc:creator>Andrea</dc:creator>
  <dc:description/>
  <dc:language>en-US</dc:language>
  <cp:lastModifiedBy>kluvere</cp:lastModifiedBy>
  <dcterms:modified xsi:type="dcterms:W3CDTF">2012-03-13T01:04:26Z</dcterms:modified>
  <cp:revision>25</cp:revision>
  <dc:subject/>
  <dc:title>Activities of Interest Groups</dc:title>
</cp:coreProperties>
</file>